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0FD-C3AC-436F-A99A-0E601DC4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E55-71F9-40B0-AFB2-177BC3C4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BF2-7660-419B-AD3D-BA13F7C6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9EC-4D09-458E-A606-A88EB025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8CC9-2C24-4CD4-8DE5-83D10020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A31F-DB33-4210-83F3-F9B8FCD6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57E8-2A03-413F-83EB-B924A05F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C460-DB11-4DEB-A402-882BDA6D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FD02-333F-4727-B679-F7558DC6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E9F2-9A8D-4921-9E13-1BF81C39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BEE9-DDB8-462D-9A00-60A85CE0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2D4-5FF6-4583-8B80-F763CA30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2E60-FC07-419A-880A-7C856F4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ACE9-48D6-45F1-97C5-D781B6CF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EF1B-D63F-4CDF-83F2-0667283A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D8BF-49B2-499B-AD53-4293B154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58C0-C54B-4598-A8C3-4FA057F1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5A8-A288-43E8-B0F6-38BEC674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397-E7D4-4F17-9578-C06B4CF5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AFE-D8B6-45A2-B79B-D4D6A0E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7E8-F168-4DEE-9C0A-B2EDFBAE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EFD-8C4E-443C-962A-78451A4C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5DE-35A0-48D9-9D5D-1217560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EED-AA70-45AD-A745-6D89AD57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3232-298E-4FB1-B280-3AF60C0C9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4656-00CC-4798-95D4-B5CA1CAE5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лшебная страна звуков.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 гостях у сказ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85840" y="42876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II методический конкурс 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дуктов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заика презент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5580000" y="464328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паева Ольга Юр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СОШ №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Реж,202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тепиано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D:\АРХИВ УРОКОВ\АРХИВ УРОКОВ 2021-2022\7 УРОК\1 класс\пианино .jpg"/>
          <p:cNvPicPr/>
          <p:nvPr/>
        </p:nvPicPr>
        <p:blipFill>
          <a:blip r:embed="rId1"/>
          <a:stretch/>
        </p:blipFill>
        <p:spPr>
          <a:xfrm>
            <a:off x="1282680" y="1600200"/>
            <a:ext cx="657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507204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8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:\АРХИВ УРОКОВ\миша.jpg"/>
          <p:cNvPicPr/>
          <p:nvPr/>
        </p:nvPicPr>
        <p:blipFill>
          <a:blip r:embed="rId1"/>
          <a:stretch/>
        </p:blipFill>
        <p:spPr>
          <a:xfrm>
            <a:off x="4643280" y="1000080"/>
            <a:ext cx="4214880" cy="545796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pic>
        <p:nvPicPr>
          <p:cNvPr id="87" name="Picture 7" descr="D:\АРХИВ УРОКОВ\_DSC0287_1.jpg"/>
          <p:cNvPicPr/>
          <p:nvPr/>
        </p:nvPicPr>
        <p:blipFill>
          <a:blip r:embed="rId2"/>
          <a:stretch/>
        </p:blipFill>
        <p:spPr>
          <a:xfrm>
            <a:off x="428760" y="928800"/>
            <a:ext cx="378612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создания</a:t>
            </a:r>
            <a:br>
              <a:rPr sz="11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льные шкатулки появились лишь в конце XIX века в Швейцарии. Женевский часовщик Антуан Фавр в 1796 году изобрел уникальный музыкальный механизм, который поместили в шкатулку. Вскоре эти изысканные игрушки обрели свою популярность и стали самыми желанными подарками для юных барышень. Каких только не придумывали музыкальных шкатулок: шкатулки с поющими птичками, с танцующими фигурками, с вращающимися картинками и т.д. </a:t>
            </a: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10" descr="D:\АРХИВ УРОКОВ\O1CN01kU8pPR1ivav4BmF1Z_!!334884475.gif"/>
          <p:cNvPicPr/>
          <p:nvPr/>
        </p:nvPicPr>
        <p:blipFill>
          <a:blip r:embed="rId1"/>
          <a:srcRect l="0" t="16464" r="0" b="11788"/>
          <a:stretch/>
        </p:blipFill>
        <p:spPr>
          <a:xfrm>
            <a:off x="785880" y="3643200"/>
            <a:ext cx="4038480" cy="28576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90" name="Picture 4" descr="D:\АРХИВ УРОКОВ\images.jpg"/>
          <p:cNvPicPr/>
          <p:nvPr/>
        </p:nvPicPr>
        <p:blipFill>
          <a:blip r:embed="rId2"/>
          <a:stretch/>
        </p:blipFill>
        <p:spPr>
          <a:xfrm>
            <a:off x="5572080" y="3643200"/>
            <a:ext cx="3071880" cy="27860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85840" y="571320"/>
            <a:ext cx="43578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тулки были разных размеров: и огромные (размером со шкаф) и совсем крошечные. Чем больше была шкатулка, тем звонче и приятней звучала мело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того, большие шкатулки могли проигрывать поочередно от четырех до восьми мелодий. Уже в 1815 году в той же Швейцарии был открыт первый завод по производству музыкальных шкату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D:\АРХИВ УРОКОВ\1559757808120276651.jpg"/>
          <p:cNvPicPr/>
          <p:nvPr/>
        </p:nvPicPr>
        <p:blipFill>
          <a:blip r:embed="rId1"/>
          <a:stretch/>
        </p:blipFill>
        <p:spPr>
          <a:xfrm>
            <a:off x="428760" y="642960"/>
            <a:ext cx="4500360" cy="5857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5804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ЗЫКАЛЬНЫЕ ШКАТУ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71680" y="107136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ей популярностью стали пользоваться шкатулки с движущимися фигурками – это были и балерины, кружащиеся под восхитительную музыку, и оркестры, играющие завораживающие рит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АРХИВ УРОКОВ\музык шк.jpg"/>
          <p:cNvPicPr/>
          <p:nvPr/>
        </p:nvPicPr>
        <p:blipFill>
          <a:blip r:embed="rId1"/>
          <a:stretch/>
        </p:blipFill>
        <p:spPr>
          <a:xfrm>
            <a:off x="285840" y="1571760"/>
            <a:ext cx="5072040" cy="4881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14480" y="285480"/>
            <a:ext cx="50720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14880" y="1428840"/>
            <a:ext cx="447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льные шкатулки — это сложный музыкальный инструмент, многие детали изготавливаются вручную, например, калки цилиндра, которые являются своеобразным нотным листо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АРХИВ УРОКОВ\280px-Spieldose.jpg"/>
          <p:cNvPicPr/>
          <p:nvPr/>
        </p:nvPicPr>
        <p:blipFill>
          <a:blip r:embed="rId1"/>
          <a:stretch/>
        </p:blipFill>
        <p:spPr>
          <a:xfrm>
            <a:off x="642960" y="46432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АРХИВ УРОКОВ\images (1).jpg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182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:\АРХИВ УРОКОВ\mqdefault.jpg"/>
          <p:cNvPicPr/>
          <p:nvPr/>
        </p:nvPicPr>
        <p:blipFill>
          <a:blip r:embed="rId3"/>
          <a:stretch/>
        </p:blipFill>
        <p:spPr>
          <a:xfrm>
            <a:off x="642960" y="42876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АРХИВ УРОКОВ\шкатулка.jpg"/>
          <p:cNvPicPr/>
          <p:nvPr/>
        </p:nvPicPr>
        <p:blipFill>
          <a:blip r:embed="rId1"/>
          <a:stretch/>
        </p:blipFill>
        <p:spPr>
          <a:xfrm>
            <a:off x="285840" y="1714680"/>
            <a:ext cx="8572320" cy="4628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тулка вну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rcRect l="0" t="0" r="0" b="17894"/>
          <a:stretch/>
        </p:blipFill>
        <p:spPr>
          <a:xfrm>
            <a:off x="357120" y="620640"/>
            <a:ext cx="4500720" cy="5616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35120" y="53928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К. Л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72040" y="1285560"/>
            <a:ext cx="4572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узыкаль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баке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для фортепи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вящена сыну композитора М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льная табак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1285920"/>
            <a:ext cx="4714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велирная раб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подаро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это и хотел отразить в своей пьесе Анатолий Ля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ешь пьесу - и представляется коробочка, золотая или серебряная, с узором, портретом или розой. Так и хочется узнать, а что же там внутри - мармелад, или колечко с камушко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ожет, жемчужинк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D:\АРХИВ УРОКОВ\табакереа.jpg"/>
          <p:cNvPicPr/>
          <p:nvPr/>
        </p:nvPicPr>
        <p:blipFill>
          <a:blip r:embed="rId1"/>
          <a:stretch/>
        </p:blipFill>
        <p:spPr>
          <a:xfrm>
            <a:off x="357120" y="1643040"/>
            <a:ext cx="4038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6:31:32Z</dcterms:created>
  <dc:creator>901</dc:creator>
  <dc:description/>
  <dc:language>en-US</dc:language>
  <cp:lastModifiedBy>User</cp:lastModifiedBy>
  <dcterms:modified xsi:type="dcterms:W3CDTF">2023-03-28T10:32:40Z</dcterms:modified>
  <cp:revision>24</cp:revision>
  <dc:subject/>
  <dc:title>Фольклор в музыке русских композиторов</dc:title>
</cp:coreProperties>
</file>