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E033-6EE6-4CD4-A926-FB5494C126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4AB7-F12E-442A-97EC-356469132E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E14-671F-4E26-A0E1-88FE3A96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4EE6-0216-4C78-BC5D-23E252A6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CD5-6666-40B8-B429-30B96D41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4BC-AB7F-4CD4-BB2E-C79002A1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66E9-1956-4005-B02B-545613CE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E450-DCD0-4DB1-B116-4EEACEE6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BDF4-8C2E-45FD-9608-187383AD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E883-F589-4EE3-95D7-0D7F9A30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C10D-6287-48BD-9369-2DD6D717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6032-F6BF-4C7A-88AE-61FEE333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6723-DF8D-4AC4-8BBC-043D18CF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A24-6B46-4587-AFA9-76620DF4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A9F1-7D9B-4975-98B4-DF56BD67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BC01-BD5B-445E-B83D-65B61E15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7496-CE48-4673-A7CE-C66B4A2C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6734-94D3-4B20-B1A4-5ACBF1F2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19E0-9EF9-438E-9D86-E1A88AE4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A7FDA-AD38-4398-AEF9-32E7374C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F825-CC60-4E96-84DD-6E694D17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D2A28-6428-4C90-B84D-3C2B4B1B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F36F6-E89A-4617-AF09-02A0C9CF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2EBCA-25E3-4062-B6BF-712BD4C6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6FA-3B1D-4320-9EE7-414E6152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87D25-3115-40CE-A95B-94F3021F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CD1AF-3C87-4ECC-A07F-529EC0E4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C326-2360-4B91-B0EC-2D39C9A2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4DBA7-2AA5-4B7B-AECA-68CA8584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58BEE-73EE-4664-B2CD-A4F22A30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7901-7F18-40D9-8C9C-D48B1907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3C2B-946B-4C7E-B54E-0AAEB448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F6899-C304-433B-B6E7-408F518E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9B562-C91C-4A42-B6FA-F402C9B7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68A82-C235-459D-82F4-E0BA71C6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708-1AF7-4EA6-8446-0299B418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829B7-84FA-4C50-BCEC-A63EB845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E4F0E-CE52-4214-AB2B-0319C717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1DED4-120E-4ADE-A71C-40DC66EF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B6509-8B14-4529-BB27-34A4990D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339DA-FF6D-4F9A-B009-FEFD7D06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D40AA-7502-4DAE-92F5-F06D052C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51318-FAD4-4C9A-B497-D3FE3266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980B2-C607-4477-A02D-0A9A6342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5FEE1-016D-45D4-ABFA-5B5CB226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07438-B12C-4A08-A742-DB8C5AF8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30A-C784-424C-B75B-D9FD5224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ACC7E-7314-41E0-9756-C62F0D5F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A3EBF-3145-4716-917C-353E0F88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6C613-A044-4E99-90D0-363AC205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FE3DC-02E3-464A-840D-731BE4C6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97375-9A42-4EDE-BD23-2DCEF47F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51DAF-63B3-45CF-B1E5-891805A9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0B647-7AFF-49D4-87D4-47A75385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A63CF-1414-4DB3-94CE-1551664D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A19E9-A9AB-41A4-9555-1C33C4C5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D55D9-D534-4360-919D-A972FEC0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12E-7981-43B9-86CE-890D8993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A0005-E597-471F-B77F-D755CAB7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B636B-041E-47DB-885E-D3CA409C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79D29-29E6-45F0-81C0-C07CC128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B5359-B3BD-4FD4-BA06-593CC0DB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603A2-CF45-42FD-AC87-0B420363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F587E-BA58-4423-A51A-CEF96ED8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00568-B1FA-43A4-B1E2-85A86709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57BA4-5B61-4F28-92C4-F0BF56F7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2BC4E-E207-4AE3-8FF8-9D060A06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3A641-16D9-44C4-8CAC-581653F3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1F0-4CFC-41C7-BE02-D287130F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9DF49-5589-4B9D-9CB0-D3F39F15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4EC42-2B51-48CD-A6D4-B5ECAE5C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C4778-DDA2-47DE-979D-BEDA5DDA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50204-BC8D-4DDE-96AC-FEA76199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29571-12E6-4340-9295-E4BD6530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D3E80-5582-429C-9155-7E8E2EA3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D8647-96E6-4BB8-B6B3-6342CC84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AEE75-821E-4AAB-A250-30368D33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5FA8D-C214-4149-AEAB-7EDE3483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19C74-C517-439C-B455-098613DF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F0A8-96A0-4411-9906-5474D908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0C85B-11A4-484F-B9F7-D329D81E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64DCD-556C-4784-9E5D-87DFA07B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5B3F8-F544-48D9-9AB6-41A56E59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5453F-405F-4EF9-9F19-4341E4F7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7F1D9-3317-4500-AC3B-B996A930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AE1EC-AE17-42FF-91E6-9D35B518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8C001-08B5-4C6D-B75D-7F7AE4CC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339EC-8508-43E1-B5DF-BD81CE6B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C377D-4B72-4608-B03C-C2F1EC5C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99791-5906-4695-9746-61AA365E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6E7-87F4-430A-9110-5C4D4720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4135B-FEA4-4AE5-AC49-7D05298E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870E0-180E-4F2B-88FE-D727FE1A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87559-CD36-4DD2-9464-ADFA4387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D3F83-9BF3-45C7-A9A7-451690CB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0F8DB-6672-4C29-ADFC-586F7D72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76F88-C677-4134-B2C8-6A70A463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5A9B8-3DFE-472A-85E8-8142CEE4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1B38-5D35-4185-83D8-2D79C68C3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4B97-ED46-4D31-982B-FF3735199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8B2E-212E-4D4F-8EA7-D6AECBE94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6678-0CAB-44B1-AA8D-5D9F4804C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895D-C61A-42C4-B216-B23403E4D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AAF0-0669-4FB9-9786-B5BFAA87D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7863-3AE9-4D25-9087-C41197AB8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7368-8891-4771-85B1-BB9117706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-285840" y="1143000"/>
            <a:ext cx="10001520" cy="74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Constantia"/>
              </a:rPr>
              <a:t>СКАЗКА В МУЗЫК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оугольник 8"/>
          <p:cNvSpPr/>
          <p:nvPr/>
        </p:nvSpPr>
        <p:spPr>
          <a:xfrm>
            <a:off x="357120" y="500040"/>
            <a:ext cx="84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III методический конкурс компьюте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продуктов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заика презентац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9"/>
          <p:cNvSpPr/>
          <p:nvPr/>
        </p:nvSpPr>
        <p:spPr>
          <a:xfrm>
            <a:off x="5580000" y="4786200"/>
            <a:ext cx="324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ропаева Ольга Юрь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ОУ СОШ №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Реж,2023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ТРАНА СКАЗОК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1" name="Picture 5" descr="D:\АРХИВ УРОКОВ\АРХИВ УРОКОВ 2019-2020\3 УРОК\3 класс\НОРВЕГИЯ\ea72e3400d6e.jpg"/>
          <p:cNvPicPr/>
          <p:nvPr/>
        </p:nvPicPr>
        <p:blipFill>
          <a:blip r:embed="rId1"/>
          <a:stretch/>
        </p:blipFill>
        <p:spPr>
          <a:xfrm>
            <a:off x="1500120" y="1143000"/>
            <a:ext cx="6114960" cy="452592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3"/>
          <p:cNvSpPr/>
          <p:nvPr/>
        </p:nvSpPr>
        <p:spPr>
          <a:xfrm>
            <a:off x="142920" y="5929200"/>
            <a:ext cx="93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с вами с помощью музыки совершим путешествие в красивую страну Норвегию. Она находится  у Северного мо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6"/>
          <p:cNvSpPr/>
          <p:nvPr/>
        </p:nvSpPr>
        <p:spPr>
          <a:xfrm>
            <a:off x="3523320" y="339840"/>
            <a:ext cx="32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ОРВЕ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5" name="Picture 7" descr="D:\АРХИВ УРОКОВ\АРХИВ УРОКОВ 2019-2020\3 УРОК\3 класс\НОРВЕГИЯ\norwegian-landscape-003.jpg"/>
          <p:cNvPicPr/>
          <p:nvPr/>
        </p:nvPicPr>
        <p:blipFill>
          <a:blip r:embed="rId1"/>
          <a:stretch/>
        </p:blipFill>
        <p:spPr>
          <a:xfrm>
            <a:off x="357120" y="1785960"/>
            <a:ext cx="4143600" cy="328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D:\АРХИВ УРОКОВ\АРХИВ УРОКОВ 2019-2020\3 УРОК\3 класс\НОРВЕГИЯ\3a0b4d307632.jpg"/>
          <p:cNvPicPr/>
          <p:nvPr/>
        </p:nvPicPr>
        <p:blipFill>
          <a:blip r:embed="rId2"/>
          <a:stretch/>
        </p:blipFill>
        <p:spPr>
          <a:xfrm>
            <a:off x="4648320" y="3143160"/>
            <a:ext cx="4209840" cy="314352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5"/>
          <p:cNvSpPr/>
          <p:nvPr/>
        </p:nvSpPr>
        <p:spPr>
          <a:xfrm>
            <a:off x="142920" y="5072040"/>
            <a:ext cx="500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й много морских  заливов, гор, скал,  снегов, озёр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вегия - родина гномов, троллей, эльфов. По легенде эти сказочные существа живут в горах и скалах, которых много в Норве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0"/>
          <p:cNvSpPr/>
          <p:nvPr/>
        </p:nvSpPr>
        <p:spPr>
          <a:xfrm>
            <a:off x="6335640" y="2760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3177000" y="37274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ДВАРД ГРИ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1" name="Picture 6" descr="D:\АРХИВ УРОКОВ\АРХИВ УРОКОВ 2019-2020\3 УРОК\3 класс\НОРВЕГИЯ\Без названия.jpg"/>
          <p:cNvPicPr/>
          <p:nvPr/>
        </p:nvPicPr>
        <p:blipFill>
          <a:blip r:embed="rId1"/>
          <a:stretch/>
        </p:blipFill>
        <p:spPr>
          <a:xfrm>
            <a:off x="214200" y="1214280"/>
            <a:ext cx="2828880" cy="3571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3000240" y="1213920"/>
            <a:ext cx="61437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двард Хагеруп Григ родился 15 июня 1843 года в культурной и обеспеченной семье.  Мать композитора, у себя дома в Бергене постоянно музицировала, исполняя сочинения Моцарта, и, как было принято в состоятельных семьях, с детства обучала музыке Эдварда, его брата и трёх сестёр. Впервые будущий композитор сел за фортепиано в четыре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ТР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Picture 2" descr="D:\АРХИВ УРОКОВ\АРХИВ УРОКОВ 2019-2020\3 УРОК\3 класс\НОРВЕГИЯ\1620992316_7-pibig_info-p-rassvet-priroda-krasivo-foto-7.jpg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3"/>
          <p:cNvSpPr/>
          <p:nvPr/>
        </p:nvSpPr>
        <p:spPr>
          <a:xfrm>
            <a:off x="785880" y="621504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вает сюиту музыкальная картина «Утро» 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ПЕЩЕРЕ ГОРНОГО КОРО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7" name="Picture 5" descr="D:\АРХИВ УРОКОВ\АРХИВ УРОКОВ 2019-2020\3 УРОК\3 класс\ГНОМ.jpg"/>
          <p:cNvPicPr/>
          <p:nvPr/>
        </p:nvPicPr>
        <p:blipFill>
          <a:blip r:embed="rId1"/>
          <a:stretch/>
        </p:blipFill>
        <p:spPr>
          <a:xfrm>
            <a:off x="725400" y="1600200"/>
            <a:ext cx="3502080" cy="4525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D:\АРХИВ УРОКОВ\АРХИВ УРОКОВ 2019-2020\3 УРОК\3 класс\ГНОМЫ.jpg"/>
          <p:cNvPicPr/>
          <p:nvPr/>
        </p:nvPicPr>
        <p:blipFill>
          <a:blip r:embed="rId2"/>
          <a:stretch/>
        </p:blipFill>
        <p:spPr>
          <a:xfrm>
            <a:off x="4648320" y="234648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0"/>
          <p:cNvSpPr/>
          <p:nvPr/>
        </p:nvSpPr>
        <p:spPr>
          <a:xfrm>
            <a:off x="9360" y="-3262680"/>
            <a:ext cx="17766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СНЯ СОЛЬВЕЙ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1" name="Picture 4" descr="D:\АРХИВ УРОКОВ\АРХИВ УРОКОВ 2019-2020\3 УРОК\3 класс\НОРВЕГИЯ\images.jpg"/>
          <p:cNvPicPr/>
          <p:nvPr/>
        </p:nvPicPr>
        <p:blipFill>
          <a:blip r:embed="rId1"/>
          <a:stretch/>
        </p:blipFill>
        <p:spPr>
          <a:xfrm>
            <a:off x="214200" y="4857840"/>
            <a:ext cx="3143520" cy="1630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D:\АРХИВ УРОКОВ\АРХИВ УРОКОВ 2019-2020\3 УРОК\3 класс\НОРВЕГИЯ\images (1).jpg"/>
          <p:cNvPicPr/>
          <p:nvPr/>
        </p:nvPicPr>
        <p:blipFill>
          <a:blip r:embed="rId2"/>
          <a:stretch/>
        </p:blipFill>
        <p:spPr>
          <a:xfrm>
            <a:off x="5143680" y="2500200"/>
            <a:ext cx="295272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АНЕЦ АНИТ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Picture 2" descr="D:\АРХИВ УРОКОВ\АРХИВ УРОКОВ 2019-2020\3 УРОК\3 класс\НОРВЕГИЯ\images.png"/>
          <p:cNvPicPr/>
          <p:nvPr/>
        </p:nvPicPr>
        <p:blipFill>
          <a:blip r:embed="rId1"/>
          <a:stretch/>
        </p:blipFill>
        <p:spPr>
          <a:xfrm>
            <a:off x="6072120" y="3214800"/>
            <a:ext cx="3071880" cy="3209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D:\АРХИВ УРОКОВ\АРХИВ УРОКОВ 2019-2020\3 УРОК\3 класс\НОРВЕГИЯ\904.jpg"/>
          <p:cNvPicPr/>
          <p:nvPr/>
        </p:nvPicPr>
        <p:blipFill>
          <a:blip r:embed="rId2"/>
          <a:stretch/>
        </p:blipFill>
        <p:spPr>
          <a:xfrm>
            <a:off x="428760" y="3143160"/>
            <a:ext cx="409572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7" name="Picture 2" descr="D:\АРХИВ УРОКОВ\АРХИВ УРОКОВ 2019-2020\3 УРОК\3 класс\НОРВЕГИЯ\images (3).jpg"/>
          <p:cNvPicPr/>
          <p:nvPr/>
        </p:nvPicPr>
        <p:blipFill>
          <a:blip r:embed="rId1"/>
          <a:stretch/>
        </p:blipFill>
        <p:spPr>
          <a:xfrm>
            <a:off x="5572080" y="47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D:\АРХИВ УРОКОВ\АРХИВ УРОКОВ 2019-2020\3 УРОК\3 класс\НОРВЕГИЯ\Без названия (2).jpg"/>
          <p:cNvPicPr/>
          <p:nvPr/>
        </p:nvPicPr>
        <p:blipFill>
          <a:blip r:embed="rId2"/>
          <a:stretch/>
        </p:blipFill>
        <p:spPr>
          <a:xfrm>
            <a:off x="3500280" y="20001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D:\АРХИВ УРОКОВ\АРХИВ УРОКОВ 2019-2020\3 УРОК\3 класс\НОРВЕГИЯ\Без названия (1).jpg"/>
          <p:cNvPicPr/>
          <p:nvPr/>
        </p:nvPicPr>
        <p:blipFill>
          <a:blip r:embed="rId3"/>
          <a:stretch/>
        </p:blipFill>
        <p:spPr>
          <a:xfrm>
            <a:off x="571680" y="207180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D:\АРХИВ УРОКОВ\АРХИВ УРОКОВ 2019-2020\3 УРОК\3 класс\НОРВЕГИЯ\images (2).jpg"/>
          <p:cNvPicPr/>
          <p:nvPr/>
        </p:nvPicPr>
        <p:blipFill>
          <a:blip r:embed="rId4"/>
          <a:stretch/>
        </p:blipFill>
        <p:spPr>
          <a:xfrm>
            <a:off x="785880" y="4857840"/>
            <a:ext cx="3638520" cy="1685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D:\АРХИВ УРОКОВ\АРХИВ УРОКОВ 2019-2020\3 УРОК\3 класс\НОРВЕГИЯ\images (4).jpg"/>
          <p:cNvPicPr/>
          <p:nvPr/>
        </p:nvPicPr>
        <p:blipFill>
          <a:blip r:embed="rId5"/>
          <a:stretch/>
        </p:blipFill>
        <p:spPr>
          <a:xfrm>
            <a:off x="6357960" y="2214720"/>
            <a:ext cx="24670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10:28:32Z</dcterms:created>
  <dc:creator>Татьяна</dc:creator>
  <dc:description/>
  <dc:language>en-US</dc:language>
  <cp:lastModifiedBy>User</cp:lastModifiedBy>
  <dcterms:modified xsi:type="dcterms:W3CDTF">2023-03-28T10:33:18Z</dcterms:modified>
  <cp:revision>108</cp:revision>
  <dc:subject/>
  <dc:title>Тема урока:</dc:title>
</cp:coreProperties>
</file>