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020-3A5B-4875-9689-44C0C28F3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8C37-8DFA-4229-827D-3BE069A47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630-67B7-4878-BC10-ABE160E7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3E8-DDB6-4E84-8E27-B1F646C3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701-EDCC-4FB9-8668-2A797CB5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99F-D2F7-4433-A9DF-8CF0791A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1C7-A88B-44F2-AA14-AB8F3993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7170-F544-47A6-A577-300799F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499E-6489-474E-80FF-F03E3E9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6E12-4CFB-4413-822C-12A8AACD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047B-1CEB-4D20-BC04-2CDB0A4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8C64-7DF9-4769-A5D4-A48DC5D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4961-6ADF-47D8-8246-6CFA17B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11B-2E69-493D-9BBB-F74953B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C5AF-297D-4A0B-9026-F8A7340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BD7-8511-4B00-8290-D16D5386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93D-D897-4907-887B-266D36ED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DA7-F97C-40CF-A9E1-1BBB0B03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821C-786F-48F4-B875-D97D2758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B09D-F026-4462-A776-16DB2D18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F303-D015-4158-BE91-4E74FFD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2D25-79CF-4559-9E43-A659444C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19B0-288F-458C-85E1-F7D015C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E438-8FEF-4101-A2C8-8F60097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58F-F341-4191-87CD-856154F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14F5-1440-4609-BFDB-90715D95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27FF-A546-4115-9378-E864667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7D19-3E55-447D-B97F-B7237E0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DD4C-6BC2-4EAE-A4E7-1B41A90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582B-818F-43A0-9498-5BF73E7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76EC-1CBD-49BE-853E-AF4A5FB5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8ED5-A82F-4F7F-96CA-C52ECC57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3141-C053-485B-AF7C-7A3367A7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23DC-F278-4AA7-BA84-9B79A2C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6EC5-964F-46B3-B318-1AB3ED18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96E-5541-401C-900C-F081DEE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0BE8-5202-4B60-BC7B-7753F2D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FFA2-2904-4F3B-AE69-55119DF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CA20-30B8-42B4-BAED-071B8055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85DB-53D7-42EA-AD78-32EAB2A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6287-07C9-47A3-9281-7CC5FA2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A1E1-A1E5-4FCA-9683-98B4658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7032-19F3-4839-B003-DFD4B81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19C6-0973-482D-B8C0-08B48590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A8E4-30A2-47FA-A645-3DF67873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D559-7B72-4D65-BAE1-42C3E3D2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E50-CD84-461B-8899-20076AA4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9CD4-1775-4A02-86A9-F70B97A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31FD-C12E-4DC6-A575-E62E137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B2AD4-65A4-4235-8965-87A6BD0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54FC-FD82-4B8A-B2D2-F5897FCB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2EB4-8E59-4426-8B3C-CDBA1F1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A177D-ABBF-48CB-95EC-2182C5B2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8C74A-2BBA-411E-9D74-B2D2C04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D2474-0886-427A-8E16-707C67E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ED844-6528-4A59-962A-C3B60B76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49C62-6BAB-4C75-9A94-6B139DB7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470-4C46-41C4-B962-6D8B0E8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8E4F9-9487-4B0D-8903-E8A9E6E4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A15CF-03E5-45FE-9B1C-9B00FDBE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4427-C124-4421-B183-FC1B335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3A1C-9DDC-4B5E-A736-4D15334A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3F73-A5BD-4797-A1FE-BE9BCEA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FBFB-C653-435B-9ED8-25DE5350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C0CE-25A7-4427-B9E0-66B1CCA8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4FB9-224F-4330-BC68-A2A058F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EED9-0950-448B-AC45-4F2D6DD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D5372-F796-4C04-83C0-4201477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960-8E54-4063-9A26-D4CD2F4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E798-4781-4A43-A51C-FD42CCC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75AF-DCF5-46AE-B7E1-B473B653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8B39-9200-47BA-B4E0-95FD5D2C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FD84-3C7C-400C-B8D6-CCBBA84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0C52-060B-484A-8D38-21B73C4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980F-0EBC-401E-A820-771247C1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C944-DF9E-4F4B-BB45-11DCA54B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9168-766A-4C00-BDF7-A94F14F1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C1D9-C3A6-40CF-AC06-C53C59A0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CF06-B8DF-42FF-A2A3-00B699A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688-6778-44A6-9352-BCEB7FE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733F5-492A-4AE4-AB55-4A24BC7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6612-5417-42DD-91BF-1AC9848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563E-2AB0-4FA0-B2D9-EB31191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7CBD-25AE-437D-8F21-2E460670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B4C9-FCE2-4206-866F-95C7ECD2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00E6-DC2D-4246-986D-54E18BA7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6B0F-01F9-4FC2-8F71-6243E8D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4AE2-55E0-4A29-8E5E-8E60236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A16B-AFB5-4F5F-A070-6F1F205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28D6-4405-49AC-B35C-26CFD61C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E1C-001E-4BA4-9111-6827101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2596-C0B8-4CC5-A317-F2C1AE0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2BB47-9107-46E9-81AE-E306933D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B3A17-2442-41F1-9E30-A697EF5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CAB55-D32A-4D24-BC3C-35EACB8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C02F-41F0-43B6-9794-4850E4D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4E47-5F2D-458D-B26B-C0AC31FA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56B8F-F569-4E55-9BED-95D85A44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314-C818-4FC4-97AC-20D6BC8F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1C15-AFA0-4BF8-A8CF-B178D0F35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160-78CC-4278-8B7E-7C0AECD6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445D-006E-42A6-9CDB-7D092A78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970F-F57B-4694-929E-045769ACD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2915-9EA5-41B2-AC63-93B89BE74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5CC-894B-4FFC-B175-F65A82B50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0D6B-8E47-4146-A5F0-4B1136A3C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285840" y="1143000"/>
            <a:ext cx="10001520" cy="74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Constantia"/>
              </a:rPr>
              <a:t>СКАЗКА В МУЗЫ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357120" y="5000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5580000" y="4786200"/>
            <a:ext cx="32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АНА СКАЗО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5" descr="D:\АРХИВ УРОКОВ\АРХИВ УРОКОВ 2019-2020\3 УРОК\3 класс\НОРВЕГИЯ\ea72e3400d6e.jpg"/>
          <p:cNvPicPr/>
          <p:nvPr/>
        </p:nvPicPr>
        <p:blipFill>
          <a:blip r:embed="rId1"/>
          <a:stretch/>
        </p:blipFill>
        <p:spPr>
          <a:xfrm>
            <a:off x="1500120" y="1143000"/>
            <a:ext cx="6114960" cy="4525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42920" y="5929200"/>
            <a:ext cx="93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вами с помощью музыки совершим путешествие в красивую страну Норвегию. Она находится  у Северн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6"/>
          <p:cNvSpPr/>
          <p:nvPr/>
        </p:nvSpPr>
        <p:spPr>
          <a:xfrm>
            <a:off x="3523320" y="3398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ВЕ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7" descr="D:\АРХИВ УРОКОВ\АРХИВ УРОКОВ 2019-2020\3 УРОК\3 класс\НОРВЕГИЯ\norwegian-landscape-003.jpg"/>
          <p:cNvPicPr/>
          <p:nvPr/>
        </p:nvPicPr>
        <p:blipFill>
          <a:blip r:embed="rId1"/>
          <a:stretch/>
        </p:blipFill>
        <p:spPr>
          <a:xfrm>
            <a:off x="357120" y="1785960"/>
            <a:ext cx="4143600" cy="328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D:\АРХИВ УРОКОВ\АРХИВ УРОКОВ 2019-2020\3 УРОК\3 класс\НОРВЕГИЯ\3a0b4d307632.jpg"/>
          <p:cNvPicPr/>
          <p:nvPr/>
        </p:nvPicPr>
        <p:blipFill>
          <a:blip r:embed="rId2"/>
          <a:stretch/>
        </p:blipFill>
        <p:spPr>
          <a:xfrm>
            <a:off x="4648320" y="3143160"/>
            <a:ext cx="420984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142920" y="507204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й много морских  заливов, гор, скал,  снегов, озёр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вегия - родина гномов, троллей, эльфов. По легенде эти сказочные существа живут в горах и скалах, которых много в Норв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6335640" y="2760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177000" y="3727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ДВАРД ГРИ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6" descr="D:\АРХИВ УРОКОВ\АРХИВ УРОКОВ 2019-2020\3 УРОК\3 класс\НОРВЕГИЯ\Без названия.jpg"/>
          <p:cNvPicPr/>
          <p:nvPr/>
        </p:nvPicPr>
        <p:blipFill>
          <a:blip r:embed="rId1"/>
          <a:stretch/>
        </p:blipFill>
        <p:spPr>
          <a:xfrm>
            <a:off x="214200" y="1214280"/>
            <a:ext cx="2828880" cy="35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00240" y="1213920"/>
            <a:ext cx="61437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двард Хагеруп Григ родился 15 июня 1843 года в культурной и обеспеченной семье.  Мать композитора, у себя дома в Бергене постоянно музицировала, исполняя сочинения Моцарта, и, как было принято в состоятельных семьях, с детства обучала музыке Эдварда, его брата и трёх сестёр. Впервые будущий композитор сел за фортепиано в четыр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Т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2" descr="D:\АРХИВ УРОКОВ\АРХИВ УРОКОВ 2019-2020\3 УРОК\3 класс\НОРВЕГИЯ\1620992316_7-pibig_info-p-rassvet-priroda-krasivo-foto-7.jp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3"/>
          <p:cNvSpPr/>
          <p:nvPr/>
        </p:nvSpPr>
        <p:spPr>
          <a:xfrm>
            <a:off x="785880" y="62150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т сюиту музыкальная картина «Утро» 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ЕЩЕРЕ ГОРНОГО КОРО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5" descr="D:\АРХИВ УРОКОВ\АРХИВ УРОКОВ 2019-2020\3 УРОК\3 класс\ГНОМ.jpg"/>
          <p:cNvPicPr/>
          <p:nvPr/>
        </p:nvPicPr>
        <p:blipFill>
          <a:blip r:embed="rId1"/>
          <a:stretch/>
        </p:blipFill>
        <p:spPr>
          <a:xfrm>
            <a:off x="725400" y="1600200"/>
            <a:ext cx="3502080" cy="452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:\АРХИВ УРОКОВ\АРХИВ УРОКОВ 2019-2020\3 УРОК\3 класс\ГНОМЫ.jpg"/>
          <p:cNvPicPr/>
          <p:nvPr/>
        </p:nvPicPr>
        <p:blipFill>
          <a:blip r:embed="rId2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0"/>
          <p:cNvSpPr/>
          <p:nvPr/>
        </p:nvSpPr>
        <p:spPr>
          <a:xfrm>
            <a:off x="9360" y="-3262680"/>
            <a:ext cx="17766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СНЯ СОЛЬВЕЙ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1" name="Picture 4" descr="D:\АРХИВ УРОКОВ\АРХИВ УРОКОВ 2019-2020\3 УРОК\3 класс\НОРВЕГИЯ\images.jpg"/>
          <p:cNvPicPr/>
          <p:nvPr/>
        </p:nvPicPr>
        <p:blipFill>
          <a:blip r:embed="rId1"/>
          <a:stretch/>
        </p:blipFill>
        <p:spPr>
          <a:xfrm>
            <a:off x="214200" y="4857840"/>
            <a:ext cx="3143520" cy="1630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D:\АРХИВ УРОКОВ\АРХИВ УРОКОВ 2019-2020\3 УРОК\3 класс\НОРВЕГИЯ\images (1)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527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НЕЦ АНИТ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Picture 2" descr="D:\АРХИВ УРОКОВ\АРХИВ УРОКОВ 2019-2020\3 УРОК\3 класс\НОРВЕГИЯ\images.png"/>
          <p:cNvPicPr/>
          <p:nvPr/>
        </p:nvPicPr>
        <p:blipFill>
          <a:blip r:embed="rId1"/>
          <a:stretch/>
        </p:blipFill>
        <p:spPr>
          <a:xfrm>
            <a:off x="6072120" y="3214800"/>
            <a:ext cx="3071880" cy="3209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:\АРХИВ УРОКОВ\АРХИВ УРОКОВ 2019-2020\3 УРОК\3 класс\НОРВЕГИЯ\904.jpg"/>
          <p:cNvPicPr/>
          <p:nvPr/>
        </p:nvPicPr>
        <p:blipFill>
          <a:blip r:embed="rId2"/>
          <a:stretch/>
        </p:blipFill>
        <p:spPr>
          <a:xfrm>
            <a:off x="428760" y="314316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Picture 2" descr="D:\АРХИВ УРОКОВ\АРХИВ УРОКОВ 2019-2020\3 УРОК\3 класс\НОРВЕГИЯ\images (3).jpg"/>
          <p:cNvPicPr/>
          <p:nvPr/>
        </p:nvPicPr>
        <p:blipFill>
          <a:blip r:embed="rId1"/>
          <a:stretch/>
        </p:blipFill>
        <p:spPr>
          <a:xfrm>
            <a:off x="557208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D:\АРХИВ УРОКОВ\АРХИВ УРОКОВ 2019-2020\3 УРОК\3 класс\НОРВЕГИЯ\Без названия (2).jpg"/>
          <p:cNvPicPr/>
          <p:nvPr/>
        </p:nvPicPr>
        <p:blipFill>
          <a:blip r:embed="rId2"/>
          <a:stretch/>
        </p:blipFill>
        <p:spPr>
          <a:xfrm>
            <a:off x="3500280" y="20001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:\АРХИВ УРОКОВ\АРХИВ УРОКОВ 2019-2020\3 УРОК\3 класс\НОРВЕГИЯ\Без названия (1).jpg"/>
          <p:cNvPicPr/>
          <p:nvPr/>
        </p:nvPicPr>
        <p:blipFill>
          <a:blip r:embed="rId3"/>
          <a:stretch/>
        </p:blipFill>
        <p:spPr>
          <a:xfrm>
            <a:off x="571680" y="20718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D:\АРХИВ УРОКОВ\АРХИВ УРОКОВ 2019-2020\3 УРОК\3 класс\НОРВЕГИЯ\images (2).jpg"/>
          <p:cNvPicPr/>
          <p:nvPr/>
        </p:nvPicPr>
        <p:blipFill>
          <a:blip r:embed="rId4"/>
          <a:stretch/>
        </p:blipFill>
        <p:spPr>
          <a:xfrm>
            <a:off x="785880" y="4857840"/>
            <a:ext cx="3638520" cy="1685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D:\АРХИВ УРОКОВ\АРХИВ УРОКОВ 2019-2020\3 УРОК\3 класс\НОРВЕГИЯ\images (4).jpg"/>
          <p:cNvPicPr/>
          <p:nvPr/>
        </p:nvPicPr>
        <p:blipFill>
          <a:blip r:embed="rId5"/>
          <a:stretch/>
        </p:blipFill>
        <p:spPr>
          <a:xfrm>
            <a:off x="6357960" y="2214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0:28:32Z</dcterms:created>
  <dc:creator>Татьяна</dc:creator>
  <dc:description/>
  <dc:language>en-US</dc:language>
  <cp:lastModifiedBy>User</cp:lastModifiedBy>
  <dcterms:modified xsi:type="dcterms:W3CDTF">2023-03-28T10:33:18Z</dcterms:modified>
  <cp:revision>108</cp:revision>
  <dc:subject/>
  <dc:title>Тема урока:</dc:title>
</cp:coreProperties>
</file>