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FBD-C2D5-4CDF-8FC2-BA52A8C2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C51-D897-420C-A95E-F1F9021D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A41-A119-4B66-A223-10613232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353-3FFB-46EC-9AEB-D9B318B2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1006-477C-4EE2-AB5A-2D51F1BC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94C5-410B-4107-98BE-594C4E77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A339-4236-4220-B0DB-1011C45D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4EFF-B30F-45C3-A29A-572FB2EF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876A-3760-44D9-B5C6-F3DC7F3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7C49-E39E-4EF4-A348-92417D84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C9E5-7F95-4513-B875-8B9C7FB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880-D117-4705-A676-59222EE0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4B21-9DDC-4635-A94A-050203D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7B2C-8CF7-46B9-9EC2-C3721247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4A1A-C614-4806-AE10-1DFCE310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1CDA-9983-46BE-8B9D-6A67C91D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4FFD-595F-4263-92EB-A76262B2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8C8-D55D-4449-A418-76172B78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1B2-2CC9-4A9C-9A36-72B2F29D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4DB-BF2C-467C-9782-065A88B9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C85-C8A1-42BB-B949-F673F2E0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DC5-7F52-48E1-A89A-9D09747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863-1F82-4867-A048-DCE075C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3EC-42E6-4199-A177-178B61F5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A279-5F8A-4C34-A528-E65C791CF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7BC3-3E57-4A05-A64A-C8BD77A2E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лшебная страна звуков.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 гостях у сказ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85840" y="42876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II методический конкурс 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дуктов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заика презент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5580000" y="464328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паева Ольга Юр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СОШ №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Реж,202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тепиано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D:\АРХИВ УРОКОВ\АРХИВ УРОКОВ 2021-2022\7 УРОК\1 класс\пианино .jpg"/>
          <p:cNvPicPr/>
          <p:nvPr/>
        </p:nvPicPr>
        <p:blipFill>
          <a:blip r:embed="rId1"/>
          <a:stretch/>
        </p:blipFill>
        <p:spPr>
          <a:xfrm>
            <a:off x="1282680" y="1600200"/>
            <a:ext cx="657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507204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8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:\АРХИВ УРОКОВ\миша.jpg"/>
          <p:cNvPicPr/>
          <p:nvPr/>
        </p:nvPicPr>
        <p:blipFill>
          <a:blip r:embed="rId1"/>
          <a:stretch/>
        </p:blipFill>
        <p:spPr>
          <a:xfrm>
            <a:off x="4643280" y="1000080"/>
            <a:ext cx="4214880" cy="545796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pic>
        <p:nvPicPr>
          <p:cNvPr id="87" name="Picture 7" descr="D:\АРХИВ УРОКОВ\_DSC0287_1.jpg"/>
          <p:cNvPicPr/>
          <p:nvPr/>
        </p:nvPicPr>
        <p:blipFill>
          <a:blip r:embed="rId2"/>
          <a:stretch/>
        </p:blipFill>
        <p:spPr>
          <a:xfrm>
            <a:off x="428760" y="928800"/>
            <a:ext cx="378612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создания</a:t>
            </a:r>
            <a:br>
              <a:rPr sz="11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ые шкатулки появились лишь в конце XIX века в Швейцарии. Женевский часовщик Антуан Фавр в 1796 году изобрел уникальный музыкальный механизм, который поместили в шкатулку. Вскоре эти изысканные игрушки обрели свою популярность и стали самыми желанными подарками для юных барышень. Каких только не придумывали музыкальных шкатулок: шкатулки с поющими птичками, с танцующими фигурками, с вращающимися картинками и т.д. </a:t>
            </a: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10" descr="D:\АРХИВ УРОКОВ\O1CN01kU8pPR1ivav4BmF1Z_!!334884475.gif"/>
          <p:cNvPicPr/>
          <p:nvPr/>
        </p:nvPicPr>
        <p:blipFill>
          <a:blip r:embed="rId1"/>
          <a:srcRect l="0" t="16464" r="0" b="11788"/>
          <a:stretch/>
        </p:blipFill>
        <p:spPr>
          <a:xfrm>
            <a:off x="785880" y="3643200"/>
            <a:ext cx="4038480" cy="28576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90" name="Picture 4" descr="D:\АРХИВ УРОКОВ\images.jpg"/>
          <p:cNvPicPr/>
          <p:nvPr/>
        </p:nvPicPr>
        <p:blipFill>
          <a:blip r:embed="rId2"/>
          <a:stretch/>
        </p:blipFill>
        <p:spPr>
          <a:xfrm>
            <a:off x="5572080" y="3643200"/>
            <a:ext cx="3071880" cy="27860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85840" y="571320"/>
            <a:ext cx="4357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тулки были разных размеров: и огромные (размером со шкаф) и совсем крошечные. Чем больше была шкатулка, тем звонче и приятней звучала мело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того, большие шкатулки могли проигрывать поочередно от четырех до восьми мелодий. Уже в 1815 году в той же Швейцарии был открыт первый завод по производству музыкальных шкату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:\АРХИВ УРОКОВ\1559757808120276651.jpg"/>
          <p:cNvPicPr/>
          <p:nvPr/>
        </p:nvPicPr>
        <p:blipFill>
          <a:blip r:embed="rId1"/>
          <a:stretch/>
        </p:blipFill>
        <p:spPr>
          <a:xfrm>
            <a:off x="428760" y="642960"/>
            <a:ext cx="4500360" cy="5857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580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ЗЫКАЛЬНЫЕ ШКАТУ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71680" y="107136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ей популярностью стали пользоваться шкатулки с движущимися фигурками – это были и балерины, кружащиеся под восхитительную музыку, и оркестры, играющие завораживающие рит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АРХИВ УРОКОВ\музык шк.jpg"/>
          <p:cNvPicPr/>
          <p:nvPr/>
        </p:nvPicPr>
        <p:blipFill>
          <a:blip r:embed="rId1"/>
          <a:stretch/>
        </p:blipFill>
        <p:spPr>
          <a:xfrm>
            <a:off x="285840" y="1571760"/>
            <a:ext cx="5072040" cy="4881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14480" y="285480"/>
            <a:ext cx="50720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4880" y="1428840"/>
            <a:ext cx="447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льные шкатулки — это сложный музыкальный инструмент, многие детали изготавливаются вручную, например, калки цилиндра, которые являются своеобразным нотным листо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АРХИВ УРОКОВ\280px-Spieldose.jpg"/>
          <p:cNvPicPr/>
          <p:nvPr/>
        </p:nvPicPr>
        <p:blipFill>
          <a:blip r:embed="rId1"/>
          <a:stretch/>
        </p:blipFill>
        <p:spPr>
          <a:xfrm>
            <a:off x="642960" y="46432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АРХИВ УРОКОВ\images (1).jpg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182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:\АРХИВ УРОКОВ\mqdefault.jpg"/>
          <p:cNvPicPr/>
          <p:nvPr/>
        </p:nvPicPr>
        <p:blipFill>
          <a:blip r:embed="rId3"/>
          <a:stretch/>
        </p:blipFill>
        <p:spPr>
          <a:xfrm>
            <a:off x="642960" y="42876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АРХИВ УРОКОВ\шкатулка.jpg"/>
          <p:cNvPicPr/>
          <p:nvPr/>
        </p:nvPicPr>
        <p:blipFill>
          <a:blip r:embed="rId1"/>
          <a:stretch/>
        </p:blipFill>
        <p:spPr>
          <a:xfrm>
            <a:off x="285840" y="1714680"/>
            <a:ext cx="8572320" cy="4628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тулка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rcRect l="0" t="0" r="0" b="17894"/>
          <a:stretch/>
        </p:blipFill>
        <p:spPr>
          <a:xfrm>
            <a:off x="357120" y="620640"/>
            <a:ext cx="4500720" cy="5616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35120" y="53928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К. Л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2040" y="1285560"/>
            <a:ext cx="4572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узыкаль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баке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для фортепи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вящена сыну композитора М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льная табак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1285920"/>
            <a:ext cx="4714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велирная раб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подар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это и хотел отразить в своей пьесе Анатолий Л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ешь пьесу - и представляется коробочка, золотая или серебряная, с узором, портретом или розой. Так и хочется узнать, а что же там внутри - мармелад, или колечко с камушко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ожет, жемчужинк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D:\АРХИВ УРОКОВ\табакереа.jpg"/>
          <p:cNvPicPr/>
          <p:nvPr/>
        </p:nvPicPr>
        <p:blipFill>
          <a:blip r:embed="rId1"/>
          <a:stretch/>
        </p:blipFill>
        <p:spPr>
          <a:xfrm>
            <a:off x="357120" y="1643040"/>
            <a:ext cx="4038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6:31:32Z</dcterms:created>
  <dc:creator>901</dc:creator>
  <dc:description/>
  <dc:language>en-US</dc:language>
  <cp:lastModifiedBy>User</cp:lastModifiedBy>
  <dcterms:modified xsi:type="dcterms:W3CDTF">2023-03-28T10:32:40Z</dcterms:modified>
  <cp:revision>24</cp:revision>
  <dc:subject/>
  <dc:title>Фольклор в музыке русских композиторов</dc:title>
</cp:coreProperties>
</file>