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2005-2810-4AC8-B316-7FB72B996F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AD81-C098-4DBC-B90E-3F8AFAFED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421-DF4F-48CD-A5C1-147BE067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636-29B9-445D-9223-DBF73BE8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C8A-FD2C-4EE7-B138-58D818A1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A9A-1184-4DA9-B661-047AF6C0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59ED-3C1B-4253-8BA4-187F92E2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E002-0373-4212-AC12-AC0603FB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FA6E-01BA-422E-BC19-DEB73650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F218-6C30-4800-9256-51B83EB7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4A94-4597-4F8C-98D0-846D2A0E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5B5C-FF05-4B06-A01A-79F085A6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7511-7393-48FF-89DD-266CE004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039-A88A-452F-B80E-9D1E50A6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D8AB-1622-4FFC-B3F7-B77FA57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B08F-CE59-4481-B890-8B9824D9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F8FD-4042-4722-8EAB-9D99263A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77C3-0059-4922-B355-6D1DC3EE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6E7B-A453-47F0-AFBA-50E1DDE8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E8B2E-8D38-43A6-922B-C7C2E0CE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081C-4156-4166-A122-30AD46F8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A4E7-0861-4E01-A234-FCFD6802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0AE1-7104-40D1-9821-940E87CF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C52F-598A-4F07-8736-69C35D42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5F4-590F-4EA3-96D5-5B8922B2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09A0-2D83-4E6C-88D7-1451B262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68D2-80BA-4F14-89CE-92E12763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7552-9685-4420-A634-D3B7C418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B252-0791-4EBF-A6B2-582B7B39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525AE-F6FA-42A9-AE5E-3027E835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8A0F-5283-4378-A379-74CB26E2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03CF8-8F47-4BDF-A6EF-485A07FD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9E45-2235-4E75-8197-99E29006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E868-2F6E-4401-9D1F-15920604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B968-39F5-40E9-B6AE-2B522D23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1F8-71CF-4227-A34C-F9B719A7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3FA0-2BD7-40E9-8188-9ECBE64E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8DAA-10B0-418B-85B3-5A068EB9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C8BA-B818-4801-994C-F0E6A421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F514-59D5-4AF9-865F-C298E822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4AB75-2420-482D-87EA-DEFF173D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F75BE-8F14-4C13-85C1-394E639F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4E729-B0B9-41DF-B89D-33504EBB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86B64-2B55-4E66-B8AD-9756273E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6C0F1-F86A-474C-A184-3DF7B37D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03638-B941-4093-9FA9-33BE1F0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D4A-49CF-4949-9165-F311EF44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00420-D0B4-4598-B842-8D094A12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6B053-51B3-4C79-92BE-16A4E0BB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44DBA-B204-4EA0-9292-04D17E32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722A7-D375-4E0A-AE1C-0F09AAC5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A688C-05AD-4A11-B6E1-9AFB6ECD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5F37E-4996-4C55-BFA0-FFC3AFD1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26D7B-AC57-48D6-8286-A8BC3478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B7C8F-156B-44F0-BBB0-11974D57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1E119-E12B-4B75-AC4C-A978D252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786F4-3A23-45B7-A1AB-4DABA723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D73-DF05-4507-B96B-E4485813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70850-BF91-4A8B-841B-8275976A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1B571-AD09-4C97-93B8-404F0AC0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EA8B4-0B05-40F3-A108-73E4E8C6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92597-361C-41CA-831D-59BBBE54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52F38-4905-4DB1-B431-7173BFCE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B07A2-3E06-4F46-892A-AD2AA411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1011C-E6B0-4DE5-9CBC-05832599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67984-CB04-4A31-99C8-3B42610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997F9-DE98-4631-8E81-825931E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68875-F7AE-4047-8AEC-2B8A5CCB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D34-C9BD-4882-9C53-829B7ED8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B4D89-05A1-4D59-BB73-BB362E51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7E09E-02DF-4228-8CE7-6F28BFD7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9A964-A503-4024-B668-4EBEF906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DB3AE-1344-4159-BE7B-AB993CC6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E10BD-3A28-4175-820C-F94522CE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0C26B-9431-490C-ABBE-1793C054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DF150-5F01-46F0-A54E-93AB5F52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71919-891B-4CA9-BE11-AB18708E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91B80-445A-4F09-A733-EED00AC3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9A9E9-C262-4E92-941A-ABD373B1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81F-7909-4005-A9D9-421450EF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B8DED-9232-4EDF-9D56-098CBF99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6FB19-7366-470D-961D-FE230121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09B0C-EECA-4915-8F81-3FBD1CE0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7BE41-A87E-4425-8D50-0CCCF4FA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6FC02-92BE-4B0F-82B5-BB6E3AAF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27F3E-987B-4FE4-A445-D031749A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A1518-0DAF-4A2D-A55D-B3F7A780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67577-2A00-4A77-8371-FAD4C99F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A3799-0CEC-4AC9-BCC3-410664A6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FF96D-915D-48E5-A41C-68284036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A3E-76A6-4514-B70D-5F52F1E9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97F42-8E32-4F86-A947-9732E34B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46EB7-B3E9-48D6-9E79-4E423896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8DEA1-A035-468C-8779-16FD04CF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09352-E5E2-45B4-A0C9-182DEB9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111A0-7C8C-41F4-9343-B491A0A1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DCD7B-1B11-47EB-8E7C-C116A695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245E9-B891-4DF1-B335-DF15CE61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42A7-15AC-42AA-9343-D08A30A50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72D8-73D0-40C4-8D6B-AFA9AD36B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5838-96F6-4AC0-87FD-FF9B4862F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DE57-9C60-4C18-8BC2-BE126DF32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B0B2-32F6-4011-BA58-5DE86DB7D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5E1A-310B-4FE8-A319-4B094E257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DF2-556C-458A-871E-A6099FE74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DE48-80A1-414C-B8C1-D35C2A243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-285840" y="1143000"/>
            <a:ext cx="10001520" cy="74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Constantia"/>
              </a:rPr>
              <a:t>СКАЗКА В МУЗЫК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8"/>
          <p:cNvSpPr/>
          <p:nvPr/>
        </p:nvSpPr>
        <p:spPr>
          <a:xfrm>
            <a:off x="357120" y="500040"/>
            <a:ext cx="84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III методический конкурс компьюте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продуктов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заика презента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9"/>
          <p:cNvSpPr/>
          <p:nvPr/>
        </p:nvSpPr>
        <p:spPr>
          <a:xfrm>
            <a:off x="5580000" y="4786200"/>
            <a:ext cx="324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паева Ольга Юрь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ОУ СОШ №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Реж,2023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ТРАНА СКАЗОК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1" name="Picture 5" descr="D:\АРХИВ УРОКОВ\АРХИВ УРОКОВ 2019-2020\3 УРОК\3 класс\НОРВЕГИЯ\ea72e3400d6e.jpg"/>
          <p:cNvPicPr/>
          <p:nvPr/>
        </p:nvPicPr>
        <p:blipFill>
          <a:blip r:embed="rId1"/>
          <a:stretch/>
        </p:blipFill>
        <p:spPr>
          <a:xfrm>
            <a:off x="1500120" y="1143000"/>
            <a:ext cx="6114960" cy="45259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3"/>
          <p:cNvSpPr/>
          <p:nvPr/>
        </p:nvSpPr>
        <p:spPr>
          <a:xfrm>
            <a:off x="142920" y="5929200"/>
            <a:ext cx="93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 вами с помощью музыки совершим путешествие в красивую страну Норвегию. Она находится  у Северного мо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6"/>
          <p:cNvSpPr/>
          <p:nvPr/>
        </p:nvSpPr>
        <p:spPr>
          <a:xfrm>
            <a:off x="3523320" y="33984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ОРВЕ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7" descr="D:\АРХИВ УРОКОВ\АРХИВ УРОКОВ 2019-2020\3 УРОК\3 класс\НОРВЕГИЯ\norwegian-landscape-003.jpg"/>
          <p:cNvPicPr/>
          <p:nvPr/>
        </p:nvPicPr>
        <p:blipFill>
          <a:blip r:embed="rId1"/>
          <a:stretch/>
        </p:blipFill>
        <p:spPr>
          <a:xfrm>
            <a:off x="357120" y="1785960"/>
            <a:ext cx="4143600" cy="328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D:\АРХИВ УРОКОВ\АРХИВ УРОКОВ 2019-2020\3 УРОК\3 класс\НОРВЕГИЯ\3a0b4d307632.jpg"/>
          <p:cNvPicPr/>
          <p:nvPr/>
        </p:nvPicPr>
        <p:blipFill>
          <a:blip r:embed="rId2"/>
          <a:stretch/>
        </p:blipFill>
        <p:spPr>
          <a:xfrm>
            <a:off x="4648320" y="3143160"/>
            <a:ext cx="420984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5"/>
          <p:cNvSpPr/>
          <p:nvPr/>
        </p:nvSpPr>
        <p:spPr>
          <a:xfrm>
            <a:off x="142920" y="5072040"/>
            <a:ext cx="500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й много морских  заливов, гор, скал,  снегов, озёр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вегия - родина гномов, троллей, эльфов. По легенде эти сказочные существа живут в горах и скалах, которых много в Норв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"/>
          <p:cNvSpPr/>
          <p:nvPr/>
        </p:nvSpPr>
        <p:spPr>
          <a:xfrm>
            <a:off x="6335640" y="2760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3177000" y="3727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ДВАРД ГРИ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6" descr="D:\АРХИВ УРОКОВ\АРХИВ УРОКОВ 2019-2020\3 УРОК\3 класс\НОРВЕГИЯ\Без названия.jpg"/>
          <p:cNvPicPr/>
          <p:nvPr/>
        </p:nvPicPr>
        <p:blipFill>
          <a:blip r:embed="rId1"/>
          <a:stretch/>
        </p:blipFill>
        <p:spPr>
          <a:xfrm>
            <a:off x="214200" y="1214280"/>
            <a:ext cx="2828880" cy="3571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000240" y="1213920"/>
            <a:ext cx="61437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двард Хагеруп Григ родился 15 июня 1843 года в культурной и обеспеченной семье.  Мать композитора, у себя дома в Бергене постоянно музицировала, исполняя сочинения Моцарта, и, как было принято в состоятельных семьях, с детства обучала музыке Эдварда, его брата и трёх сестёр. Впервые будущий композитор сел за фортепиано в четыре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ТР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2" descr="D:\АРХИВ УРОКОВ\АРХИВ УРОКОВ 2019-2020\3 УРОК\3 класс\НОРВЕГИЯ\1620992316_7-pibig_info-p-rassvet-priroda-krasivo-foto-7.jpg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3"/>
          <p:cNvSpPr/>
          <p:nvPr/>
        </p:nvSpPr>
        <p:spPr>
          <a:xfrm>
            <a:off x="785880" y="621504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вает сюиту музыкальная картина «Утро» 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ПЕЩЕРЕ ГОРНОГО КОРО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5" descr="D:\АРХИВ УРОКОВ\АРХИВ УРОКОВ 2019-2020\3 УРОК\3 класс\ГНОМ.jpg"/>
          <p:cNvPicPr/>
          <p:nvPr/>
        </p:nvPicPr>
        <p:blipFill>
          <a:blip r:embed="rId1"/>
          <a:stretch/>
        </p:blipFill>
        <p:spPr>
          <a:xfrm>
            <a:off x="725400" y="1600200"/>
            <a:ext cx="3502080" cy="4525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:\АРХИВ УРОКОВ\АРХИВ УРОКОВ 2019-2020\3 УРОК\3 класс\ГНОМЫ.jpg"/>
          <p:cNvPicPr/>
          <p:nvPr/>
        </p:nvPicPr>
        <p:blipFill>
          <a:blip r:embed="rId2"/>
          <a:stretch/>
        </p:blipFill>
        <p:spPr>
          <a:xfrm>
            <a:off x="4648320" y="234648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0"/>
          <p:cNvSpPr/>
          <p:nvPr/>
        </p:nvSpPr>
        <p:spPr>
          <a:xfrm>
            <a:off x="9360" y="-3262680"/>
            <a:ext cx="17766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СНЯ СОЛЬВЕЙ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1" name="Picture 4" descr="D:\АРХИВ УРОКОВ\АРХИВ УРОКОВ 2019-2020\3 УРОК\3 класс\НОРВЕГИЯ\images.jpg"/>
          <p:cNvPicPr/>
          <p:nvPr/>
        </p:nvPicPr>
        <p:blipFill>
          <a:blip r:embed="rId1"/>
          <a:stretch/>
        </p:blipFill>
        <p:spPr>
          <a:xfrm>
            <a:off x="214200" y="4857840"/>
            <a:ext cx="3143520" cy="1630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D:\АРХИВ УРОКОВ\АРХИВ УРОКОВ 2019-2020\3 УРОК\3 класс\НОРВЕГИЯ\images (1).jpg"/>
          <p:cNvPicPr/>
          <p:nvPr/>
        </p:nvPicPr>
        <p:blipFill>
          <a:blip r:embed="rId2"/>
          <a:stretch/>
        </p:blipFill>
        <p:spPr>
          <a:xfrm>
            <a:off x="5143680" y="2500200"/>
            <a:ext cx="295272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АНЕЦ АНИТ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Picture 2" descr="D:\АРХИВ УРОКОВ\АРХИВ УРОКОВ 2019-2020\3 УРОК\3 класс\НОРВЕГИЯ\images.png"/>
          <p:cNvPicPr/>
          <p:nvPr/>
        </p:nvPicPr>
        <p:blipFill>
          <a:blip r:embed="rId1"/>
          <a:stretch/>
        </p:blipFill>
        <p:spPr>
          <a:xfrm>
            <a:off x="6072120" y="3214800"/>
            <a:ext cx="3071880" cy="3209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D:\АРХИВ УРОКОВ\АРХИВ УРОКОВ 2019-2020\3 УРОК\3 класс\НОРВЕГИЯ\904.jpg"/>
          <p:cNvPicPr/>
          <p:nvPr/>
        </p:nvPicPr>
        <p:blipFill>
          <a:blip r:embed="rId2"/>
          <a:stretch/>
        </p:blipFill>
        <p:spPr>
          <a:xfrm>
            <a:off x="428760" y="3143160"/>
            <a:ext cx="409572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7" name="Picture 2" descr="D:\АРХИВ УРОКОВ\АРХИВ УРОКОВ 2019-2020\3 УРОК\3 класс\НОРВЕГИЯ\images (3).jpg"/>
          <p:cNvPicPr/>
          <p:nvPr/>
        </p:nvPicPr>
        <p:blipFill>
          <a:blip r:embed="rId1"/>
          <a:stretch/>
        </p:blipFill>
        <p:spPr>
          <a:xfrm>
            <a:off x="557208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D:\АРХИВ УРОКОВ\АРХИВ УРОКОВ 2019-2020\3 УРОК\3 класс\НОРВЕГИЯ\Без названия (2).jpg"/>
          <p:cNvPicPr/>
          <p:nvPr/>
        </p:nvPicPr>
        <p:blipFill>
          <a:blip r:embed="rId2"/>
          <a:stretch/>
        </p:blipFill>
        <p:spPr>
          <a:xfrm>
            <a:off x="3500280" y="20001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D:\АРХИВ УРОКОВ\АРХИВ УРОКОВ 2019-2020\3 УРОК\3 класс\НОРВЕГИЯ\Без названия (1).jpg"/>
          <p:cNvPicPr/>
          <p:nvPr/>
        </p:nvPicPr>
        <p:blipFill>
          <a:blip r:embed="rId3"/>
          <a:stretch/>
        </p:blipFill>
        <p:spPr>
          <a:xfrm>
            <a:off x="571680" y="207180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D:\АРХИВ УРОКОВ\АРХИВ УРОКОВ 2019-2020\3 УРОК\3 класс\НОРВЕГИЯ\images (2).jpg"/>
          <p:cNvPicPr/>
          <p:nvPr/>
        </p:nvPicPr>
        <p:blipFill>
          <a:blip r:embed="rId4"/>
          <a:stretch/>
        </p:blipFill>
        <p:spPr>
          <a:xfrm>
            <a:off x="785880" y="4857840"/>
            <a:ext cx="3638520" cy="1685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D:\АРХИВ УРОКОВ\АРХИВ УРОКОВ 2019-2020\3 УРОК\3 класс\НОРВЕГИЯ\images (4).jpg"/>
          <p:cNvPicPr/>
          <p:nvPr/>
        </p:nvPicPr>
        <p:blipFill>
          <a:blip r:embed="rId5"/>
          <a:stretch/>
        </p:blipFill>
        <p:spPr>
          <a:xfrm>
            <a:off x="6357960" y="2214720"/>
            <a:ext cx="24670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10:28:32Z</dcterms:created>
  <dc:creator>Татьяна</dc:creator>
  <dc:description/>
  <dc:language>en-US</dc:language>
  <cp:lastModifiedBy>User</cp:lastModifiedBy>
  <dcterms:modified xsi:type="dcterms:W3CDTF">2023-03-28T10:33:18Z</dcterms:modified>
  <cp:revision>108</cp:revision>
  <dc:subject/>
  <dc:title>Тема урока:</dc:title>
</cp:coreProperties>
</file>