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969-2DD3-470F-9D3A-24227CA5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CC0-3DF1-4D00-B695-E8A1CA13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D04-D320-4413-9EA4-3D3A72F2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0D7-C732-484C-9350-DDF70845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93A1-5BDA-48E1-A60D-1027281C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79EB-7F46-4803-A11A-C83EEB84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CA89-E898-4BAA-8B67-AA4F7A88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C950-4003-4112-8E29-1626A73D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C67C-3A47-433C-816F-566CDA43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D9D7-7F30-436A-BE42-2B9F4720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F7BA-02E0-494C-8345-BA9C7E55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859-D313-4CCB-BAFD-3C1CEB47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522D-6C94-4ACA-B535-0E1C617E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4551-03FA-4DBC-B4A1-805832F6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AD5A-EE16-46D8-BAD4-CACA9827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BED4-3ACD-4380-AC34-A8DD24B0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3B1E-2C46-481F-880D-EE6F4996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4DE-5F20-47AA-80FD-9C8320C0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B11-6309-4756-93DC-76C7615B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DD5-C764-4340-B2FB-5653372B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D39-94FC-44E0-90BB-546B9FDC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A3F-CB58-47A6-A45C-7DAD33C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042-C41E-4532-B839-2ED8585C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DE6-C8FB-4193-9C91-55D2A93D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A88B-E0B3-4B0A-A365-EEE95BFF5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035A-6B6A-4A6B-AC1B-DFA0644AC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олшебная страна звуков.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 гостях у сказ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285840" y="42876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III методический конкурс компьюте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продуктов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заика презента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5580000" y="464328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паева Ольга Юр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СОШ №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Реж,202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тепиано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D:\АРХИВ УРОКОВ\АРХИВ УРОКОВ 2021-2022\7 УРОК\1 класс\пианино .jpg"/>
          <p:cNvPicPr/>
          <p:nvPr/>
        </p:nvPicPr>
        <p:blipFill>
          <a:blip r:embed="rId1"/>
          <a:stretch/>
        </p:blipFill>
        <p:spPr>
          <a:xfrm>
            <a:off x="1282680" y="1600200"/>
            <a:ext cx="657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507204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ле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0008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:\АРХИВ УРОКОВ\миша.jpg"/>
          <p:cNvPicPr/>
          <p:nvPr/>
        </p:nvPicPr>
        <p:blipFill>
          <a:blip r:embed="rId1"/>
          <a:stretch/>
        </p:blipFill>
        <p:spPr>
          <a:xfrm>
            <a:off x="4643280" y="1000080"/>
            <a:ext cx="4214880" cy="545796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pic>
        <p:nvPicPr>
          <p:cNvPr id="87" name="Picture 7" descr="D:\АРХИВ УРОКОВ\_DSC0287_1.jpg"/>
          <p:cNvPicPr/>
          <p:nvPr/>
        </p:nvPicPr>
        <p:blipFill>
          <a:blip r:embed="rId2"/>
          <a:stretch/>
        </p:blipFill>
        <p:spPr>
          <a:xfrm>
            <a:off x="428760" y="928800"/>
            <a:ext cx="378612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создания</a:t>
            </a:r>
            <a:br>
              <a:rPr sz="11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льные шкатулки появились лишь в конце XIX века в Швейцарии. Женевский часовщик Антуан Фавр в 1796 году изобрел уникальный музыкальный механизм, который поместили в шкатулку. Вскоре эти изысканные игрушки обрели свою популярность и стали самыми желанными подарками для юных барышень. Каких только не придумывали музыкальных шкатулок: шкатулки с поющими птичками, с танцующими фигурками, с вращающимися картинками и т.д. </a:t>
            </a:r>
            <a:br>
              <a:rPr sz="11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10" descr="D:\АРХИВ УРОКОВ\O1CN01kU8pPR1ivav4BmF1Z_!!334884475.gif"/>
          <p:cNvPicPr/>
          <p:nvPr/>
        </p:nvPicPr>
        <p:blipFill>
          <a:blip r:embed="rId1"/>
          <a:srcRect l="0" t="16464" r="0" b="11788"/>
          <a:stretch/>
        </p:blipFill>
        <p:spPr>
          <a:xfrm>
            <a:off x="785880" y="3643200"/>
            <a:ext cx="4038480" cy="28576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90" name="Picture 4" descr="D:\АРХИВ УРОКОВ\images.jpg"/>
          <p:cNvPicPr/>
          <p:nvPr/>
        </p:nvPicPr>
        <p:blipFill>
          <a:blip r:embed="rId2"/>
          <a:stretch/>
        </p:blipFill>
        <p:spPr>
          <a:xfrm>
            <a:off x="5572080" y="3643200"/>
            <a:ext cx="3071880" cy="27860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85840" y="571320"/>
            <a:ext cx="43578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тулки были разных размеров: и огромные (размером со шкаф) и совсем крошечные. Чем больше была шкатулка, тем звонче и приятней звучала мело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того, большие шкатулки могли проигрывать поочередно от четырех до восьми мелодий. Уже в 1815 году в той же Швейцарии был открыт первый завод по производству музыкальных шкатул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D:\АРХИВ УРОКОВ\1559757808120276651.jpg"/>
          <p:cNvPicPr/>
          <p:nvPr/>
        </p:nvPicPr>
        <p:blipFill>
          <a:blip r:embed="rId1"/>
          <a:stretch/>
        </p:blipFill>
        <p:spPr>
          <a:xfrm>
            <a:off x="428760" y="642960"/>
            <a:ext cx="4500360" cy="5857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5804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ЗЫКАЛЬНЫЕ ШКАТУ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71680" y="107136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ей популярностью стали пользоваться шкатулки с движущимися фигурками – это были и балерины, кружащиеся под восхитительную музыку, и оркестры, играющие завораживающие рит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АРХИВ УРОКОВ\музык шк.jpg"/>
          <p:cNvPicPr/>
          <p:nvPr/>
        </p:nvPicPr>
        <p:blipFill>
          <a:blip r:embed="rId1"/>
          <a:stretch/>
        </p:blipFill>
        <p:spPr>
          <a:xfrm>
            <a:off x="285840" y="1571760"/>
            <a:ext cx="5072040" cy="4881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14480" y="285480"/>
            <a:ext cx="50720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14880" y="1428840"/>
            <a:ext cx="4471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льные шкатулки — это сложный музыкальный инструмент, многие детали изготавливаются вручную, например, калки цилиндра, которые являются своеобразным нотным листо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АРХИВ УРОКОВ\280px-Spieldose.jpg"/>
          <p:cNvPicPr/>
          <p:nvPr/>
        </p:nvPicPr>
        <p:blipFill>
          <a:blip r:embed="rId1"/>
          <a:stretch/>
        </p:blipFill>
        <p:spPr>
          <a:xfrm>
            <a:off x="642960" y="46432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АРХИВ УРОКОВ\images (1).jpg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182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D:\АРХИВ УРОКОВ\mqdefault.jpg"/>
          <p:cNvPicPr/>
          <p:nvPr/>
        </p:nvPicPr>
        <p:blipFill>
          <a:blip r:embed="rId3"/>
          <a:stretch/>
        </p:blipFill>
        <p:spPr>
          <a:xfrm>
            <a:off x="642960" y="42876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:\АРХИВ УРОКОВ\шкатулка.jpg"/>
          <p:cNvPicPr/>
          <p:nvPr/>
        </p:nvPicPr>
        <p:blipFill>
          <a:blip r:embed="rId1"/>
          <a:stretch/>
        </p:blipFill>
        <p:spPr>
          <a:xfrm>
            <a:off x="285840" y="1714680"/>
            <a:ext cx="8572320" cy="4628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тулка внут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rcRect l="0" t="0" r="0" b="17894"/>
          <a:stretch/>
        </p:blipFill>
        <p:spPr>
          <a:xfrm>
            <a:off x="357120" y="620640"/>
            <a:ext cx="4500720" cy="5616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35120" y="53928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К. Ля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72040" y="1285560"/>
            <a:ext cx="4572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узыкаль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баке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для фортепи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вящена сыну композитора М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льная табак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1285920"/>
            <a:ext cx="4714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велирная рабо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подаро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это и хотел отразить в своей пьесе Анатолий Ля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ешь пьесу - и представляется коробочка, золотая или серебряная, с узором, портретом или розой. Так и хочется узнать, а что же там внутри - мармелад, или колечко с камушко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ожет, жемчужинк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D:\АРХИВ УРОКОВ\табакереа.jpg"/>
          <p:cNvPicPr/>
          <p:nvPr/>
        </p:nvPicPr>
        <p:blipFill>
          <a:blip r:embed="rId1"/>
          <a:stretch/>
        </p:blipFill>
        <p:spPr>
          <a:xfrm>
            <a:off x="357120" y="1643040"/>
            <a:ext cx="4038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6:31:32Z</dcterms:created>
  <dc:creator>901</dc:creator>
  <dc:description/>
  <dc:language>en-US</dc:language>
  <cp:lastModifiedBy>User</cp:lastModifiedBy>
  <dcterms:modified xsi:type="dcterms:W3CDTF">2023-03-28T10:32:40Z</dcterms:modified>
  <cp:revision>24</cp:revision>
  <dc:subject/>
  <dc:title>Фольклор в музыке русских композиторов</dc:title>
</cp:coreProperties>
</file>